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BF51-AA89-487D-AC26-298A6ED8B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8797-A1F4-4A58-B8BE-E8B98B777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3A6-A69C-4932-8674-CB24C4B4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CDE-4616-4B8B-A3E7-4587C7E6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037-6F8F-45C4-A1E0-F7AF7EF8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BF52C-B41D-4FE8-A55A-DF3F0FC7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CD550-ED8F-452C-A57F-8026C021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A10CE-81AF-4DE2-AEE4-5AFB9DF4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DBC89-4082-41E9-995D-8628C90C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175DF-5E75-443B-B727-B579D318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9DAB5-3BA1-49AC-81EF-71B204FF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DD3C0-B635-4308-84C9-0FA3EAE6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C53D1-F6CE-49D2-BA92-90892BCF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7AA84-9A17-420C-AAFF-3736B49D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1159C-CD94-4D40-9409-C2FADC8D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EA8-032D-46E2-AF66-C1ED0B81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616DF-1A2D-492B-B1A8-A921EB75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93505-3AC1-4034-86E2-E793C0D5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27F79-9EA1-4DAD-91BC-7239666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D51E5-14B7-4F3D-8F31-BE881A01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5EA37-690B-45DD-9AEC-342169BB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1DB21-FCF0-4948-98AA-3AB8548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9C989-52A8-41F1-9321-E65FD592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6EDF1-8CCC-427C-9104-6438184E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A21C4-F98A-4A02-BF99-6C84DD9D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3B941-8A81-4214-8E73-34A4DB4A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D1F-8A47-40FC-93B1-6A3B9823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37577-F488-428B-87C8-BCCEF53E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17208-380C-42A1-A0B8-DECF8C4C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36AEC-2B37-4070-838A-D677C7C2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B3651-8FE8-4297-8E3D-CC8BCC0E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DE014-84B3-4019-9F3B-8C84E08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E4012-676F-4E6F-9CD0-981BC575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39D9C-79D4-4918-8C7E-E4964BB9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9C709-80E4-44B0-9649-555B072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BCD5E-FC0D-4D8D-9834-E6CB10A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C0FE2-F652-4E4D-9D57-C0EF1F2D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A5994-2E03-4775-8F08-27B59ECE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ED4C5-051F-49DC-AA5F-18AAAFCE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AC046-7F96-426F-8720-8FB56775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4CCB3-1B6B-4CC8-A4ED-1D677203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87C20-6A89-4691-973C-DE0917EF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1A850-6B9C-4758-81D2-20324EBF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7F169-8290-4D62-A019-17E664EF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9FE72-AC3A-47E6-A2F8-D6E5001B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814F7-795A-4463-A938-B0DFB522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0955C-9C00-48A3-97C0-4879C6E5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0BBE9-2D8C-4898-9CE6-94FB07BF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F842A-AB31-428B-B953-5A13222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BEDAD-6EC7-4D07-B8CC-0FE3D0C0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D9E74-673F-4484-883F-46A618E1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9C7D4-D79E-4454-A651-B510649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3B8C9-547D-46E2-A9E0-E65C8E2F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8723D-A5BC-43CB-90C9-8F5584D8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512B0-70DB-4BE8-BFDF-098C9083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8A6F6-4FF2-4285-8240-0FFBCD2E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F6F30-C165-42EA-A5EC-A149698F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5299B-38E9-49F4-9FE9-B20B625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CE4CF-1921-4E00-8BF8-1D093010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457EA-5B8F-4313-893D-AE6B1D30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2722A-DB43-4545-8019-75B3A799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7EE16-502F-462C-A99E-8CACB271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4B945-8A63-4C85-B8DD-2838D0D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665F1-217C-4AEA-BA08-F183B47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9C032-410D-4567-861D-931CA3C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04329-7C64-490B-BA62-F1B997AD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BEB28-C2CE-4B88-BFBF-DB483884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334F7-3790-48AD-8657-F4F0AB0F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1C0B6-D33A-4322-AD7C-B0004ECE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60859-E5CE-49D5-BDD2-76A8DB53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56DBA-ACA2-4524-8E49-DAF19120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2B0D8-7C10-4B18-9656-8CAE1E95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8C017-F5DD-4DAD-A336-236C758E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9E136-AA3C-42C8-9FDA-70661BB2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E3EF4-0318-4746-BEB3-76C1A7E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DCB105-A5D4-4986-B197-60CBF6E7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EED3C-9EC9-4EFE-83C8-D014AAF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FE025-408B-49BD-B790-28CE1A0F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F632E-7B8D-4899-A662-A1111FDE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3F4B9-92A0-442A-8A34-ACE30A0B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09AA1-7153-42A0-BBB4-FA145FB5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E0611-64F3-415C-B7E1-66D4CB3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940D4-79AF-4476-9D15-88E94979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52042-D994-4E08-AA65-7588AD32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B5A9B-9FF5-4487-AA7F-B95B3C61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59D6D-F28F-47FB-9E4C-1A161514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8E0A6-F3F1-4CCB-A85C-6602AF01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246C5-42A1-410F-B684-241AE026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56C36-80A9-48E7-BE0A-D980897C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C954B-664F-42D5-8435-70D5BB2E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0385B-B092-4219-BC27-E7F0F4B9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3B390-8B3C-4C5A-B66D-01EFB38D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7A6FB-33F2-4636-AB46-8E5162C6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08D01-BDC9-4F08-939F-6D740529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CC4F7-C9F9-4A9F-9A9B-1D987377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1EA9E-2F12-4B53-85BA-1B9A4953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83314-5FC8-44AC-8B0F-6C05C2B0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95AAB-72E1-40A0-9520-724ACAE6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8BF99-90AE-4D94-8004-0653852C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B1550-4BE5-4FEA-ADAE-BF165D7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69942-78FE-4A60-B43B-B423DCBA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1D2D2-084E-41D2-898F-8FA9699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F29A4-1CA0-4B68-8170-333A1CD6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52795-DD96-4050-A6DC-E0A4A58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BC479-738E-4F1A-94F3-F5225F6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C1401-5C51-492E-9E1B-71955349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35D5E-9AA3-4B1E-A291-0264036A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2E84C-3350-43D3-AB45-1A0D275F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1219B-C7CA-4BA1-83EE-5014F6A1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9A7337-5812-4912-B8A8-55BA63DF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44E33-F65B-44EA-9DE5-B8CA3F3D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15443-B6A9-43C6-BE2E-40C4F67F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1D110-B4BD-4776-94C4-D12361BD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E3D0E-C89C-487D-8623-1F9D8839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217-BC88-4AED-A8E4-B230E15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2C4B6-A644-494B-B2E5-1BEC4545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3FACC-F5B2-4DC6-AC9B-0B01F139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4397B-5451-4995-8B10-BC087D12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3C3EA-8BF9-4636-97AC-F7F4574E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6BBFB-48AF-421F-A498-25904F97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F6437-9FF2-4B20-B92F-BC8B6F45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41DBC-2915-4F2D-A0B9-DA77743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9F420-515D-4195-94CE-287A173C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A5DC3-E090-48D0-B7AD-2C01BF30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CE710-C014-4C8A-BFCC-E0E9F135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3674-7D02-4831-828D-8B89BD9A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6093-AA5F-4C7F-BEBF-02C7B0C6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1EF2-D354-4186-8AC7-52BC1D7B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BD25-F2BD-4276-8825-E347AA35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8D15-3C9E-4DC5-84F1-F5031C45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1B8-7E6B-4E7A-86F4-4DF9F531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23DE-6A35-4B8E-968F-6DA8CB28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0EB2-ADDD-4ECE-9DF3-11CF48D2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9F0E-829F-48E4-A727-1821C28F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313B-F0FC-409A-AB48-D7C71D6D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0519-EAEF-45DC-9086-837FA386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A71E-F5EA-475C-9500-D19B9D05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F7B5-12F8-4B72-B432-0150FCC3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58A43-0A16-4778-842E-8803C536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CF52C-C4FA-4660-9889-16F50E2F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5DFB0-E984-47DB-B4E5-B0971D43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D0B-DD27-48A2-B2D5-95F86A45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584C-AFAA-4C9E-9FAF-C54A5327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2113-BEBA-490A-B7CC-217C99EA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D2C7-136E-466A-ACE5-7F429B14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D6BE-8221-498E-A107-27313AB3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47B5-753D-46AB-9F34-C2BE9097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329A-7F94-429D-A0F5-8F3AB18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FF65-6339-48FE-BA5F-45EC4AA6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A821-ACEC-468F-92B9-A4F3879A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09B51-1DA1-4F23-8A40-FB779315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D05D-F9D6-4D04-AE38-1C0622B9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EE2-30A2-4711-83CE-AAD76DEA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7D21-CDA6-4871-B352-C14DF517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4FCDD-BF59-4FDC-A3C2-A95BCBC0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DA30E-24E0-4410-971D-6CFCA694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168F9-F4FF-41C9-B2A5-92DEE378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23D4-CD7C-40DB-A725-3AFD3A52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480C-4404-4BB8-AB3F-DF72040A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D5640-EBA9-4210-BFEA-B85C1A92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F0CDB-330D-41CE-BF30-0ACA97C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E7D25-36B2-4B90-A89B-FE729B89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31908-A3BA-41B0-9977-3495FA6E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9DC-E468-4976-9613-C72C72FD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D556-4650-4E73-AA8B-EB715848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4825-B5C7-47B4-A87F-1E82D194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ADD26-0A64-4B6F-90ED-6A7739D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DAE73-8B2E-4075-975B-811A67EE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76B49-86B2-49D7-8B0B-BCE842F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83481-C34F-462B-82F7-7C7B9F40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BEA62-1254-44E0-9D3D-10BA80C4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247D3-AD96-4176-B069-A42FE64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8773-8F34-47B7-9181-EF63A008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63C41-C4CA-4303-8183-2680C49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427-74E7-43F2-8EBE-B20927E7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7330-EF4E-453A-B07E-06F54568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E50F1-2D18-4442-932A-7243EDFA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16550-411F-43A4-9B55-0AF9B764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B4EFE-F9C2-4BDF-82ED-0E8937B9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04377-8457-405C-8DFC-56BC61FA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EEAB2-779A-421B-8669-DCE9710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0D8FA-89A4-460A-B6AB-4C19E42F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4192B-19F8-480A-8F1E-C6F06EA9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BA869-5D0A-4B0A-9A5D-C85AFED2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97F1-2921-43B9-B768-DC89777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BD4-7A58-4F1D-9167-E87E975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60531-2621-48C9-A20B-31D970C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43DB-3EA6-4742-9A80-5A7AF35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0DF3B-C282-4B00-ADE7-D3D40335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86015-74CA-455F-8985-D80765C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D8DEB-714F-4827-A298-BA45CDDB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955DE-86E8-462A-AD65-39ED8189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2930A-7382-446D-9380-FB325004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E10D-5E4A-4393-B66C-9214BB8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54225-D0FD-4E8D-9103-48FD0370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82E7-9A1C-4842-83DB-51C873F1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463-D14C-41B9-9A6D-1D350079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6A241-EF19-4C14-9EC8-B175EBDA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2F145-BB19-4DB4-BD05-33E72093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5A4F4-728C-45ED-B180-2E5AEEB1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F2CD6-7A74-4A6E-BF93-C6AAF1E8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D3504-F381-4F63-A991-A3D63ACB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3A6A9-CB94-4BD1-8328-4AABA639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AA256-F5D9-4E0C-9EB2-DB0B3811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68052-4955-409E-B06E-32750781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CF77E-E893-4D07-B3BA-655156BB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08A0D-E678-4E7B-B8CA-66C71803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0FDC-F3EA-4A8A-BBBD-056C181DF52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8080-E6A7-4C4F-8B95-1CF651396C3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45DF-D906-491A-9E13-C57CB7D079C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08DC-CC7C-4222-8DD3-5AC9ED50DF3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E8B2-FFF2-4F0C-9F46-68C5CEA0AAE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8A70-3876-4109-A45E-754A094D26E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85E8-3176-41A6-8610-67F256D7A7C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B204-C025-4B35-BBAE-0C2936D291A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BE56-C910-46CF-ADF3-395AA84900E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7EF6-38BF-4D84-AF4F-085C88F9E1D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F67F-97F0-4335-B218-29C78D33EBBF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C47-8F88-4010-9FF4-B3CDF1C3D22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CDC4-127E-4B8F-B96D-4E9C1C8511B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9552-6565-4E37-8EA5-54A62E7982F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B13-3A62-4DCA-8653-94EDA1312DA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F004-1B3D-45C8-8DB5-C41990F6A20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B633-BE76-404D-AEA1-A60258A20DD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1673-A639-4543-9296-842E69F5DF9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0D44-BF0D-4D76-9766-2ECD9B6CC54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ocL7AfIRo" TargetMode="Externa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R4S1BqdFG4&amp;feature=related" TargetMode="Externa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alking With Students About Mind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y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’m here to teach you, not to judge yo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elp you think, learn and continue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ave high expectations and will not settle for anything less than your best, but I will show you how to reach those expectatio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learn with you as I am always wanting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f you are behind (or fall behind), I will teach you how to catch up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80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Your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open to learning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t in effort to develop your skills to grow smarter EACH 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ad difficult books and work to understand what you rea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rite every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elp me help you - If you don’t give anything, you can’t expect anything. Success does not come to you, you must come to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accountable and responsible for your learning - That means more than just showing u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you fall asleep, and again when you wake up, say to yourself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marter is not something you are. It is something that you ge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762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Mind Set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f you fail a test, what are some things your inner voice might say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If an inner voice says, “I’m stupid…”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n we need to use cognitive think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look at the facts and evidence more closely to draw an accurate conclusion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questions might we ask in order to get to the truth of the matter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other reasons might there be (other than stupidity) for failing a test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fter you come to the conclusion that it isn’t stupidity…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these question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can I learn from this 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can I improve so I do better next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is this man laughing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sDocL7AfIR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s no one telling these babies that the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re stupid because they don’t know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to talk using real word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y just haven’t learned yet!!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oes the brain work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FR4S1BqdFG4&amp;feature=relat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day, in a class that is really important to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, and that you like a lot, the teach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urns an important paper worth a lot of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ints. You got a ‘D’. You are very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appointed. That evening, on your way 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me, you find a parking ticket on your car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ustrated, you call your best friend to shar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r experience but are sort of brushed off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hat would you think? What would you feel? What would you do?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rite me a paragrap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Brain Growth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ke Synapse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each night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did I learn toda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mistake did I make today that taught me something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y did I try hard at today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was the result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can I get bette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fe isn’t fai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body likes m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ngs never work out for me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try harder in clas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be more careful where I pa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wonder if my friend is having a bad day, to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Do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5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 noth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y in bed all d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t chocolate ice crea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ell at someo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udy a different way and ask for hel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y the tick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 things out with my friend the next time we spea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ink about it 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as there death an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struction, or just a ba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ade, a ticket and a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appointing phone call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ecoming is better than be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otential means developing your skills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 effor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 tim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You aren’t a failure until you start to blame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ffort is the </a:t>
            </a: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KEY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 to succes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ople are all born with a love of learning. (think about babies), but a fixed mindset can undo it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llenge yourself to do something you have never done before - something difficult that you never though you could do. Picture it and think about how you will feel when you have accomplished it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icture Thomas Edison inventing the light bulb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is he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is he doing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ribe what you imagine as vividly as you ca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dison was not a loner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e had 30 assistants, including well trained scientists, helping him in a state-of the-art laborator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t did not happen suddenly - It happened over time. It took several attempt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son never stopped learning and being curiou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22:44:56Z</dcterms:created>
  <dc:creator>default</dc:creator>
  <dc:description/>
  <dc:language>en-US</dc:language>
  <cp:lastModifiedBy>Joyce Fouts</cp:lastModifiedBy>
  <dcterms:modified xsi:type="dcterms:W3CDTF">2013-06-20T23:20:59Z</dcterms:modified>
  <cp:revision>33</cp:revision>
  <dc:subject/>
  <dc:title>Talking With Students About Mindsets</dc:title>
</cp:coreProperties>
</file>